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D8B-148E-4F6B-B222-39BCDBAC8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E91-25A3-4FDD-9CD5-729D0184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DBD-5162-4BC6-881F-DEC92D18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56E-DF53-4270-9D0F-DE5D98B7F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81D3-A8E1-464D-8A0F-E56E8BDE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A24F-7981-4E5E-B46F-4F5D8DA7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F2C-4A31-4142-829F-F1338D8D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DD66-A59A-4912-AFCE-F57FF12D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121-53D7-4DCC-B751-FD6A8A0A5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6935-4901-40DE-9417-B2B56A56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C1E-1C87-42B7-B53E-2E0C7854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AA7A-CE46-4C09-80E4-D2729B49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EA4C-AA10-4148-AB5C-7E88F47C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5657-891F-4DF5-8763-51E6FB14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D3A-EF5B-459B-8F80-E50633047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9DF6-243F-455F-BD7A-03E02CB8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CCE-4715-4D57-9409-3061EA7FA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0E09-EA58-4332-9D51-87B955C1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D98-BF44-4EC3-B1B4-780C36451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C73-1AC9-4888-8D1C-38E67952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8BA-0B2A-41EB-9EDB-AE81AA74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5FB-EB9C-484D-B7C9-3FD96E62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EBD-C1A2-49D9-B4BE-438B84F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E62-3B04-4CFE-BCEF-CF6CCC09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F14-ED96-4BD8-9641-1961399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F993-E459-4EB2-B13A-2FEEE96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EFCA-354D-4AE0-8929-80B37094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FAC-53F0-47E1-9670-B9BF9E2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B95-BCFF-488E-B933-549CA1A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39A-587C-4F60-8A8B-59CBA128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F474-2E93-4E86-9230-ED42DC3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FE01-AF6C-4B28-BDFC-844C91F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B0E-3FD6-414A-AD74-E697AB9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1B79-9C6C-4134-A505-6E1759D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0431-CDD5-40AE-B45E-A0E88DF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F62-C994-46DA-BABA-FE2A66D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0689-C96D-493B-B1DD-C6B14A31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76F-45FD-4F58-8A03-D0C3740F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596-C724-4DF8-9D2C-BDF5C4B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200-2735-4F3A-BBBB-355787A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FCA-C8ED-46FC-8F41-FFB2922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792-2E3A-441F-AA20-A1BF4D1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9EA-8F65-4F7F-AC0B-DBDB233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492-AF6F-463E-BDC0-B79463FF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345-2042-4741-B8A2-452D437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D8B6-EADF-4632-B128-2076889BC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al_text.avi" descr=""/>
          <p:cNvPicPr/>
          <p:nvPr/>
        </p:nvPicPr>
        <p:blipFill>
          <a:blip r:embed="rId3"/>
          <a:stretch/>
        </p:blipFill>
        <p:spPr>
          <a:xfrm>
            <a:off x="3816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al_title.avi" descr=""/>
          <p:cNvPicPr/>
          <p:nvPr/>
        </p:nvPicPr>
        <p:blipFill>
          <a:blip r:embed="rId3"/>
          <a:stretch/>
        </p:blipFill>
        <p:spPr>
          <a:xfrm>
            <a:off x="433440" y="5345280"/>
            <a:ext cx="1243080" cy="1207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268-EDF9-4E67-9A6D-0A4D3C87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-685800"/>
            <a:ext cx="8534520" cy="85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  <a:ea typeface="Arial"/>
              </a:rPr>
              <a:t>SUKSES PENELITIAN HIBAH DIKT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  <a:ea typeface="Arial"/>
              </a:rPr>
              <a:t>DI ERA DESENTRALISAS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uqman Hakim - U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orum Group Diskusi Teknologi III dan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orum Dekan Fakultas Teknik PTM 2012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as Muhammadiyah Mala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Malang, 19 Desember 2012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-228600" y="0"/>
            <a:ext cx="9372600" cy="70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LOKASI DANA PENELITI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PETITIF NASIONA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Kompetitif: u/ proposal yg handal &amp; mampu bersa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Sumber Dana: Dipa DP2M &amp; Internal 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Dipa DP2M: u/penelitian &amp; monev ter-pusat (penentuan lanjut/tidak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Dana PT: u/monev &amp; diseminasi inter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-990720"/>
            <a:ext cx="914400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Arial"/>
              </a:rPr>
              <a:t>                   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PROSES PENGAJUAN 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# Bagi PTS: FT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LP/LPPM ke Koperti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Binaa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Bersaing (PTS Binaan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Madya &amp; Utama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lock gran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Tidak boleh ikut bersaing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# Proporsi Tim Review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Mandiri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100% Internal P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Utama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50% Internal PT &amp; 50% DP2M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Madya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25% Internal PT &amp; 75% DP2M (Teknis ≈Utama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Binaa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100% DP2M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# Alokasi Pendana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Mandiri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100% Unggulan (RIP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Utama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60% Unggulan (RIP) &amp; 40% Multi Tahun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 Madya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35% Unggulan (RIP) &amp; 65% Multi Tahun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N Binaa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25% Unggulan (RIP) &amp; 75% Multi Tahun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TS Binaa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100% Multi Tahun (via Kopertis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-762120"/>
            <a:ext cx="9144000" cy="74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Arial"/>
              </a:rPr>
              <a:t>                   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PENGELOLAAN 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PENELITIAN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# Melaksanakan POS Desentralisasi (SPMPPT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erencanaan penelitian &amp; seleksi awa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Mengirimkan proposal ke Kopertis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Kontrak penelitian (Kopertis-LP/LPPM &amp; LP/LPPM-Peneliti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Monev penelitian (oleh Tim Internal &amp; Tim DP2M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Seminar &amp; tindak lanjut hasil penelitian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Melaporkan hasil penelitian ke Kopertis (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DP2M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Perlu membentuk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ternal Complain System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+ Kopertis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# Evaluasi Kinerja Peneliti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Ada peluang u/ memperbaiki peringkat (kluster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Dilakukan berkala (3 tahun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-380880" y="-609480"/>
            <a:ext cx="9524880" cy="79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   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   </a:t>
            </a:r>
            <a:r>
              <a:rPr b="1" lang="en-US" sz="5200" spc="-1" strike="noStrike">
                <a:solidFill>
                  <a:srgbClr val="ffff00"/>
                </a:solidFill>
                <a:latin typeface="Tahoma"/>
              </a:rPr>
              <a:t>SKIM PENELITIAN DP2M: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enelitian (Dana proporsional)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# Penelitian Desentralisasi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Dana 7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PUPT, HTP, PF, PHB, HPkrt, Dsrt, PDP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# Penelitian Kompetitif Nasional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Dana 3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UngglnStrns, Rapid, KSLN&amp;PublInt’l, Hikom, Strns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ingkat Kompetisi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# Perguruan Tinggi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Mandiri, Utama, Madya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# Wilayah Kopertis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Binaan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# Nasional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Semua kluster PT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kim Penelitian Desentrali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066680"/>
          <a:ext cx="7315200" cy="5586480"/>
        </p:xfrm>
        <a:graphic>
          <a:graphicData uri="http://schemas.openxmlformats.org/drawingml/2006/table">
            <a:tbl>
              <a:tblPr/>
              <a:tblGrid>
                <a:gridCol w="639720"/>
                <a:gridCol w="2517840"/>
                <a:gridCol w="1616040"/>
                <a:gridCol w="1077840"/>
                <a:gridCol w="146376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im Penelitia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tua Penelit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rasi (Th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ggaran (Rp. Juta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gulan P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, S2 Lektor Kepal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5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– tgt P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 Tim Pascasarjan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– 1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menta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, S2 Lektor Kepal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– 5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 Bersaing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 .S2 Lek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– 7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 Pekert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P : Maks S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M : S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– 7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rtasi Dok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hs. Prog. S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– 50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sen Pemul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s S2 Lektor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TS Binaan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– 1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kim Penelitian Kompetitif Na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914400"/>
          <a:ext cx="8915400" cy="7132680"/>
        </p:xfrm>
        <a:graphic>
          <a:graphicData uri="http://schemas.openxmlformats.org/drawingml/2006/table">
            <a:tbl>
              <a:tblPr/>
              <a:tblGrid>
                <a:gridCol w="3987720"/>
                <a:gridCol w="4927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Unggulan Strategis Nasional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0Jt-1M; Minimal S3; 2-3 tahun; warna sampul kre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3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t Andalan PT dan Industri (RAPID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Kerjasama LN dan Publikasi Internasion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-300Jt; dosen tetap PT; maks 3thn; sampul warna ungu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0-200Jt; minimal S3; 2-3 tahun; MoU; warna sampul hijau mud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3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 Kompetensi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Strategis Nasion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-150Jt; minimal S3; pengalam-an 5thn; 2-3 tahun; sampul puti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5-100Jt; minimal S3; 2-3 tahun; sampul warna kun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14200" y="-380880"/>
            <a:ext cx="8929800" cy="81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PERBEDAAN SKIM PENELITI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(Terutama Luarannya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UStrana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Penaggulangan masalah nasional &amp;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pin-of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api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Kerja</a:t>
            </a:r>
            <a:r>
              <a:rPr b="1" lang="id-ID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a dgn</a:t>
            </a:r>
            <a:r>
              <a:rPr b="1" lang="id-ID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industri, menghasilkan produ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KSLN&amp;PubInt’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Jejaring kerja</a:t>
            </a:r>
            <a:r>
              <a:rPr b="1" lang="id-ID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a &amp; publikasi </a:t>
            </a:r>
            <a:r>
              <a:rPr b="1" lang="id-ID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t’l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iko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Publikasi, buku ajar, HKI (apabila relevan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trana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Penanggulangan masalah nasio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PU-PT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Produk teknologi, publikasi, HKI, kebijakan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Hibah Tim Pascasarjan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Disertasi, tesis, publika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Penelitian Fundamental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Publika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PHB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Produk (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angibl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/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ntangibl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), HKI (apabila relevan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Hibah Pekerti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Peningkatan kemampuan TP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Disertasi Dokto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: Disertasi</a:t>
            </a:r>
            <a:r>
              <a:rPr b="1" lang="id-ID" sz="2400" spc="-1" strike="noStrike">
                <a:solidFill>
                  <a:srgbClr val="0066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publikasi</a:t>
            </a:r>
            <a:r>
              <a:rPr b="1" lang="id-ID" sz="2400" spc="-1" strike="noStrike">
                <a:solidFill>
                  <a:srgbClr val="006600"/>
                </a:solidFill>
                <a:latin typeface="Arial"/>
                <a:ea typeface="Arial"/>
              </a:rPr>
              <a:t>, lulus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epat waktu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380880" y="-914400"/>
            <a:ext cx="95248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2b2b2"/>
                </a:solidFill>
                <a:latin typeface="Elephant"/>
              </a:rPr>
              <a:t>KIAT  SUKS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2b2b2"/>
                </a:solidFill>
                <a:latin typeface="Elephant"/>
              </a:rPr>
              <a:t>Penelitian Hibah Dikti </a:t>
            </a:r>
            <a:r>
              <a:rPr b="1" lang="en-AU" sz="7200" spc="-1" strike="noStrike">
                <a:solidFill>
                  <a:srgbClr val="b2b2b2"/>
                </a:solidFill>
                <a:latin typeface="Elephant"/>
              </a:rPr>
              <a:t>(DP2M)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d0106"/>
                </a:solidFill>
                <a:latin typeface="Elephant"/>
              </a:rPr>
              <a:t>7  LANGKAH  SANGAT   SIMPE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Buat </a:t>
            </a:r>
            <a:r>
              <a:rPr b="1" i="1" lang="en-US" sz="3400" spc="-1" strike="noStrike">
                <a:solidFill>
                  <a:srgbClr val="1d0106"/>
                </a:solidFill>
                <a:latin typeface="Arial Black"/>
              </a:rPr>
              <a:t>draft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 propos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Taat azas ≈ Pedoman DP2M-VII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Pilih topik </a:t>
            </a:r>
            <a:r>
              <a:rPr b="1" i="1" lang="en-US" sz="3400" spc="-1" strike="noStrike">
                <a:solidFill>
                  <a:srgbClr val="1d0106"/>
                </a:solidFill>
                <a:latin typeface="Arial Black"/>
              </a:rPr>
              <a:t>up to date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&amp; inovati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Usahakan ada </a:t>
            </a:r>
            <a:r>
              <a:rPr b="1" i="1" lang="en-US" sz="3400" spc="-1" strike="noStrike">
                <a:solidFill>
                  <a:srgbClr val="1d0106"/>
                </a:solidFill>
                <a:latin typeface="Arial Black"/>
              </a:rPr>
              <a:t>invention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&amp; </a:t>
            </a:r>
            <a:r>
              <a:rPr b="1" i="1" lang="en-US" sz="3400" spc="-1" strike="noStrike">
                <a:solidFill>
                  <a:srgbClr val="1d0106"/>
                </a:solidFill>
                <a:latin typeface="Arial Black"/>
              </a:rPr>
              <a:t>novel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Diskusi Tim &amp; </a:t>
            </a:r>
            <a:r>
              <a:rPr b="1" i="1" lang="en-US" sz="3400" spc="-1" strike="noStrike">
                <a:solidFill>
                  <a:srgbClr val="1d0106"/>
                </a:solidFill>
                <a:latin typeface="Arial Black"/>
              </a:rPr>
              <a:t>re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Cetak proposal handal &amp; kompetitif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1d01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1d0106"/>
                </a:solidFill>
                <a:latin typeface="Arial Black"/>
              </a:rPr>
              <a:t>Kirim ke SPONSOR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-228600"/>
            <a:ext cx="9144000" cy="69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PERSYARATAN: </a:t>
            </a:r>
            <a:endParaRPr b="1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0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Pengusul: Dosen Tetap (NIDN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0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da </a:t>
            </a: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roadmap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peneliti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0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Tim: 3-4 orang (≈ syarat @ Skim)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0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Track record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 Tim: Sesuai topik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0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Waktu: 1-5 tahu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Setiap peneliti: 1 Ka &amp; 1 Anggot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                              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tau 2 Anggo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380880" y="-914400"/>
            <a:ext cx="952488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2b2b2"/>
                </a:solidFill>
                <a:latin typeface="Elephant"/>
              </a:rPr>
              <a:t>KEBIJAKAN 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2b2b2"/>
                </a:solidFill>
                <a:latin typeface="Elephant"/>
              </a:rPr>
              <a:t>PENELITIAN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2b2b2"/>
                </a:solidFill>
                <a:latin typeface="Elephant"/>
              </a:rPr>
              <a:t>DP2M-DIKTI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Elephant"/>
                <a:ea typeface="Times New Roman"/>
              </a:rPr>
              <a:t>(DESENTRALISASI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04920" y="533520"/>
            <a:ext cx="883908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Elephant"/>
              </a:rPr>
              <a:t> 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Elephant"/>
              </a:rPr>
              <a:t>PROSEDUR</a:t>
            </a:r>
            <a:r>
              <a:rPr b="1" lang="en-US" sz="5400" spc="-1" strike="noStrike">
                <a:solidFill>
                  <a:srgbClr val="ffff00"/>
                </a:solidFill>
                <a:latin typeface="Elephant"/>
              </a:rPr>
              <a:t>: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engikuti semua ketentuan (BUKU PANDUAN @ SKIM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stematika proposal peneliti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elengkapan administras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elengkapan teknis proposa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0"/>
            <a:ext cx="8991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ahoma"/>
              </a:rPr>
              <a:t>MEKANISME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spcAft>
                <a:spcPts val="601"/>
              </a:spcAft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Diskusi Tim yg mendal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spcAft>
                <a:spcPts val="601"/>
              </a:spcAft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Koordinasi intens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spcAft>
                <a:spcPts val="601"/>
              </a:spcAft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Pilih topik sesuai RI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spcAft>
                <a:spcPts val="601"/>
              </a:spcAft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Perhatikan format propo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spcAft>
                <a:spcPts val="601"/>
              </a:spcAft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Lengkapi CV semua Ti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Draft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proposal siap di</a:t>
            </a: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revie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&amp; diseleksi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ccccff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80000"/>
              </a:lnSpc>
              <a:spcBef>
                <a:spcPts val="11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 u="sng">
                <a:solidFill>
                  <a:srgbClr val="ff0000"/>
                </a:solidFill>
                <a:uFillTx/>
                <a:latin typeface="Comic Sans MS"/>
              </a:rPr>
              <a:t>PROPOSAL YANG HANDAL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Judul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Singkat &amp; spesifi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Permasalahan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Cermat, tajam, &amp; jel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Kajian Pustaka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- Relevan, baru, &amp; asl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- Teori &amp; temuan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Hipotesis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Berdasarkan teori (+ / -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Tujuan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Menjajagi, menerangkan/membuktikan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menerapkan gejala/konsep, buat protot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Metode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i="1" lang="id-ID" sz="2400" spc="-1" strike="noStrike">
                <a:solidFill>
                  <a:srgbClr val="000000"/>
                </a:solidFill>
                <a:latin typeface="Tahoma"/>
              </a:rPr>
              <a:t>Tepat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, rinci, &amp; sistemati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- Teknik sampling &amp; analisis d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Anggaran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Realistis, rinci, &amp; ada justifikas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Jadual </a:t>
            </a:r>
            <a:r>
              <a:rPr b="1" lang="id-ID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 Sesuai metode (Diagram palang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SDM (</a:t>
            </a:r>
            <a:r>
              <a:rPr b="1" i="1" lang="id-ID" sz="2400" spc="-1" strike="noStrike">
                <a:solidFill>
                  <a:srgbClr val="000000"/>
                </a:solidFill>
                <a:latin typeface="Tahoma"/>
              </a:rPr>
              <a:t>Track-record</a:t>
            </a:r>
            <a:r>
              <a:rPr b="1" lang="id-ID" sz="2400" spc="-1" strike="noStrike">
                <a:solidFill>
                  <a:srgbClr val="000000"/>
                </a:solidFill>
                <a:latin typeface="Tahoma"/>
              </a:rPr>
              <a:t>) &amp; Dukungan fasilita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99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3840" y="457200"/>
            <a:ext cx="88408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</a:rPr>
              <a:t>LANGKAH-LANGKAH MENYUSU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     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</a:rPr>
              <a:t>PROPOSAL HANDAL &amp; KOMPETITIF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CARI INFORMASI SEBANYAK-BANYAKNY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mber-sumber dana (nasional &amp; internasional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enda riset nasio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bijakan daerah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butuhan Pembangun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VIA: JURNAL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EBSI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SEMINAR, DISKUSI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GEMBANGKAN IDE/GAGASAN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mbaca jurnal ilmiah, sumber tertulis, &amp; audio visu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kusi &amp; Konsulta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gamati alam &amp; masyarakat sekita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fiki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228600"/>
            <a:ext cx="8659800" cy="59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Tahoma"/>
              </a:rPr>
              <a:t>Lanjutan</a:t>
            </a:r>
            <a:r>
              <a:rPr b="1" lang="en-US" sz="40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GUBAH IDE MENJADI TEM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kasi masalah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ktual mungki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dak cukup dg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aik &amp; pent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tapi 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rg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” u/ dilaksanak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ENTUKAN TUJUAN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faat bagi pengembangan IPTEK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faat bagi Pembangun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spektif di masa mendata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09480" y="304920"/>
            <a:ext cx="8610840" cy="61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Elephant"/>
              </a:rPr>
              <a:t>KAPAN PROPOSAL DITULIS</a:t>
            </a:r>
            <a:r>
              <a:rPr b="1" lang="en-US" sz="3200" spc="-1" strike="noStrike">
                <a:solidFill>
                  <a:srgbClr val="ffff00"/>
                </a:solidFill>
                <a:latin typeface="Elephant"/>
              </a:rPr>
              <a:t> ??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awal mungkin!!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rtimbangkan waktu mencari pustak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ahami persoa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renungkan i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bentuk ti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nuli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lf-eval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roposal yang dituli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luasi oleh anggota tim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luasi oleh koleg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95280" y="0"/>
            <a:ext cx="8748720" cy="77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Elephant"/>
              </a:rPr>
              <a:t>15 PERTANYAA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lephant"/>
              </a:rPr>
              <a:t>(SETELAH PROPOSAL DITULI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al telah dipikirkan &amp; ditulis dengan baik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lebihannya ap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mberikan kontribusi pada IPTEK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 Tidak terlalu ambisiu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 Target yang diharapkan masuk akal &amp; realisti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  Sesuai dengan tujuan penelitian yang dirumuskan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 keterkaitan dengan pustaka/hasil penelitian yang relevan (sudah terbit/sudah dilakukan)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380880"/>
            <a:ext cx="883908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Elephant"/>
              </a:rPr>
              <a:t>Lanjutan pertanya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 Tidak merupakan pengulangan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dang riset sesuai dengan kepakaran peneliti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eliti dapat melaksanakan penelitian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elitian mempunyai pendekatan inovatif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e yang dirumuskan dapat menjawab tujuan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ktu penelitian dipertimbangkan dengan baik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na masuk akal &amp; realisti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mberdaya &amp; peralatan menunjang dengan baik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380880"/>
            <a:ext cx="9372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6000" spc="-1" strike="noStrike" u="sng">
                <a:solidFill>
                  <a:srgbClr val="92d050"/>
                </a:solidFill>
                <a:uFillTx/>
                <a:latin typeface="Tahoma"/>
              </a:rPr>
              <a:t>Hasil Penelitian</a:t>
            </a:r>
            <a:r>
              <a:rPr b="1" lang="en-US" sz="6000" spc="-1" strike="noStrike">
                <a:solidFill>
                  <a:srgbClr val="92d050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92d050"/>
                </a:solidFill>
                <a:latin typeface="Tahoma"/>
              </a:rPr>
              <a:t>[via PROPOSAL HANDAL]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09480" y="1143000"/>
            <a:ext cx="8534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Wingdings 3"/>
                <a:ea typeface="Wingdings 3"/>
              </a:rPr>
              <a:t>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idak Selalu Bai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7 INDIKATOR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2d050"/>
                </a:solidFill>
                <a:latin typeface="Tahoma"/>
              </a:rPr>
              <a:t>(Hasil Penelitian BAIK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Diseminasi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Jurnal Nasional/Internasional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Lamanya waktu peneliti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Kualifikasi tim peneliti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Biaya yang digunak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umlah peneliti yang terlib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Metode yang digunak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Aktualitas permasalahan penelitia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3808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 u="sng">
                <a:solidFill>
                  <a:srgbClr val="000000"/>
                </a:solidFill>
                <a:uFillTx/>
                <a:latin typeface="Arial Black"/>
              </a:rPr>
              <a:t>SISTEM INFORMASI INTERNAL</a:t>
            </a:r>
            <a:r>
              <a:rPr b="1" i="1" lang="id-ID" sz="2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1" i="1" lang="id-ID" sz="2400" spc="-1" strike="noStrike">
                <a:solidFill>
                  <a:srgbClr val="009900"/>
                </a:solidFill>
                <a:latin typeface="Lucida Sans"/>
              </a:rPr>
              <a:t>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“Menjemput Bola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Bukan “Kantor Pos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Agenda Peneliti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 u="sng">
                <a:solidFill>
                  <a:srgbClr val="000000"/>
                </a:solidFill>
                <a:uFillTx/>
                <a:latin typeface="Arial Black"/>
              </a:rPr>
              <a:t>MONITORING &amp; EVALUASI</a:t>
            </a:r>
            <a:r>
              <a:rPr b="1" i="1" lang="id-ID" sz="2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ffffff"/>
                </a:solidFill>
                <a:latin typeface="Lucida Sans"/>
              </a:rPr>
              <a:t>   </a:t>
            </a:r>
            <a:r>
              <a:rPr b="1" i="1" lang="id-ID" sz="2400" spc="-1" strike="noStrike">
                <a:solidFill>
                  <a:srgbClr val="009900"/>
                </a:solidFill>
                <a:latin typeface="Lucida Sans"/>
              </a:rPr>
              <a:t>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Tim Monev </a:t>
            </a:r>
            <a:r>
              <a:rPr b="1" lang="id-ID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Pakar Inter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Proposal s/d Diseminasi Hasil Peneliti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Persuasif, Akurat, Konkrit (Bukan “Polisi”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Reward </a:t>
            </a:r>
            <a:r>
              <a:rPr b="1" lang="id-ID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Dipercaya u/ Internal Monev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 u="sng">
                <a:solidFill>
                  <a:srgbClr val="000000"/>
                </a:solidFill>
                <a:uFillTx/>
                <a:latin typeface="Arial Black"/>
              </a:rPr>
              <a:t>PEMBINAAN KELOMPOK PENELITI</a:t>
            </a:r>
            <a:r>
              <a:rPr b="1" i="1" lang="id-ID" sz="2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Program Kerjasama (Pihak Luar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Kegiatan Terpadu Antar “Kelti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    </a:t>
            </a:r>
            <a:r>
              <a:rPr b="1" lang="id-ID" sz="2400" spc="-1" strike="noStrike">
                <a:solidFill>
                  <a:srgbClr val="009900"/>
                </a:solidFill>
                <a:latin typeface="Lucida Sans"/>
              </a:rPr>
              <a:t>* Forum Infokom (Publikasi Ilmiah &amp; Populer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5920" indent="-385920">
              <a:lnSpc>
                <a:spcPct val="40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0" y="380880"/>
            <a:ext cx="8288280" cy="962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a3f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663300"/>
                </a:solidFill>
                <a:latin typeface="Tahoma"/>
              </a:rPr>
              <a:t>Peran FT (Pro-aktif)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-380880" y="-304920"/>
            <a:ext cx="9524880" cy="76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Kebijakan Desentralisasi: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elimpahan sebagian tugas &amp; wewenang </a:t>
            </a: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research management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ke PT (bertahap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oposal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Perencanaan PT (didukung Fak)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endanaan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70% u/ PTN &amp; PT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30% dikelola DP2M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Mekanisme Pendanaan Penelitian: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Block gran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- Kompetisi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Regional &amp; Nasion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228600"/>
            <a:ext cx="94489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STRATEGI PENGGALIAN DAN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000" spc="-1" strike="noStrike">
                <a:solidFill>
                  <a:srgbClr val="cc0000"/>
                </a:solidFill>
                <a:latin typeface="Tahoma"/>
              </a:rPr>
              <a:t>Sistem Pembiayaan Komprehensif: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i="1" lang="en-A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A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cc0000"/>
                </a:solidFill>
                <a:latin typeface="Tahoma"/>
              </a:rPr>
              <a:t>Mutu Ilmiah, Kompetitif, Kewajaran Imbalan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cc0000"/>
                </a:solidFill>
                <a:latin typeface="Tahoma"/>
              </a:rPr>
              <a:t>          </a:t>
            </a:r>
            <a:r>
              <a:rPr b="1" i="1" lang="en-AU" sz="2400" spc="-1" strike="noStrike">
                <a:solidFill>
                  <a:srgbClr val="cc0000"/>
                </a:solidFill>
                <a:latin typeface="Tahoma"/>
              </a:rPr>
              <a:t>Pendayagunaan Fasilitas &amp; SD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000" spc="-1" strike="noStrike">
                <a:solidFill>
                  <a:srgbClr val="0000cc"/>
                </a:solidFill>
                <a:latin typeface="Tahoma"/>
              </a:rPr>
              <a:t>Sikap Pro-aktif &amp; Informatif: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i="1" lang="en-A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i="1" lang="en-A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0000cc"/>
                </a:solidFill>
                <a:latin typeface="Tahoma"/>
              </a:rPr>
              <a:t>Terlambat = Kesalahan Awal u/ Berkompeti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000" spc="-1" strike="noStrike">
                <a:solidFill>
                  <a:srgbClr val="00cc00"/>
                </a:solidFill>
                <a:latin typeface="Tahoma"/>
              </a:rPr>
              <a:t>Penyusunan Proposal: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1" i="1" lang="en-AU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i="1" lang="en-AU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00cc00"/>
                </a:solidFill>
                <a:latin typeface="Tahoma"/>
              </a:rPr>
              <a:t>Taat Azas (Format, Sistematika, Waktu)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cc00"/>
                </a:solidFill>
                <a:latin typeface="Tahoma"/>
              </a:rPr>
              <a:t>          </a:t>
            </a:r>
            <a:r>
              <a:rPr b="1" i="1" lang="en-AU" sz="2400" spc="-1" strike="noStrike">
                <a:solidFill>
                  <a:srgbClr val="00cc00"/>
                </a:solidFill>
                <a:latin typeface="Tahoma"/>
              </a:rPr>
              <a:t>Mengundang Peneliti Tangguh (“MENULARKAN”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000" spc="-1" strike="noStrike">
                <a:solidFill>
                  <a:srgbClr val="996633"/>
                </a:solidFill>
                <a:latin typeface="Tahoma"/>
              </a:rPr>
              <a:t>Bermitra Dengan Industri/Swasta/Pemd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000" spc="-1" strike="noStrike">
                <a:solidFill>
                  <a:srgbClr val="800080"/>
                </a:solidFill>
                <a:latin typeface="Tahoma"/>
              </a:rPr>
              <a:t>Menggelar Bursa Teknologi Aplikatif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80008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id-ID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1" i="1" lang="id-ID" sz="2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id-ID" sz="2400" spc="-1" strike="noStrike">
                <a:solidFill>
                  <a:srgbClr val="800080"/>
                </a:solidFill>
                <a:latin typeface="Tahoma"/>
              </a:rPr>
              <a:t>Interaksi Peneliti &amp; Sponsor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800080"/>
                </a:solidFill>
                <a:latin typeface="Tahoma"/>
              </a:rPr>
              <a:t>          </a:t>
            </a:r>
            <a:r>
              <a:rPr b="1" i="1" lang="id-ID" sz="2400" spc="-1" strike="noStrike">
                <a:solidFill>
                  <a:srgbClr val="800080"/>
                </a:solidFill>
                <a:latin typeface="Tahoma"/>
              </a:rPr>
              <a:t>Publikasi &amp; Adpertensi Spesifikasi Tekn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9144000" cy="62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Black"/>
                <a:ea typeface="Arial"/>
              </a:rPr>
              <a:t>PEMETAAN KINERJA PENELITIAN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# Dasar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Borang &amp; Verifikasi 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Luaran penelit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Kinerja LPPM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T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# Tolok Ukur Kinerja Penelitian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Variabel Utama Kinerja Penelit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Variabel Penduku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riabel Utama Tolok Uku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erja Peneliti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981080"/>
          <a:ext cx="7696080" cy="4267440"/>
        </p:xfrm>
        <a:graphic>
          <a:graphicData uri="http://schemas.openxmlformats.org/drawingml/2006/table">
            <a:tbl>
              <a:tblPr/>
              <a:tblGrid>
                <a:gridCol w="609480"/>
                <a:gridCol w="5791320"/>
                <a:gridCol w="12952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on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ot (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mlah dosen berdasarkan strata (SDM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pada pusat studi / pusat kaj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dosen dengan dana DP2M Dikti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litian dosen dengan dana dari luar DP2M Dikti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aran penelit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jemen LP/LPP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Black"/>
                <a:ea typeface="Arial"/>
              </a:rPr>
              <a:t>Komponen Utama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 Black"/>
                <a:ea typeface="Arial"/>
              </a:rPr>
              <a:t>Pemetaan Kinerja Penelitia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 Black"/>
                <a:ea typeface="Arial"/>
              </a:rPr>
              <a:t>Perguruan Tinggi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lephant"/>
              </a:rPr>
              <a:t>Dapat dilihat p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lephant"/>
              </a:rPr>
              <a:t>TAB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Variabel  Penduku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Kinerja Peneliti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# Jumlah mahasisw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# Aktivitas Puslit/Pusdi diluar kegiatan penelit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# Adanya payung penelitian unggulan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roadma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# Sarana &amp; prasa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9144000" cy="69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njutan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PEMETAAN KINERJA PENELITIAN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# Verifikasi Bora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Bukti dokumen, proses, fisik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# Kluster Kinerja Penelitian 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T Mandiri (10 PTN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T Utama (17 PTN &amp; 5 PT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T Madya (15 PTN &amp; 44 PT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T Binaan (15 PTN &amp; 245 PTS +Semua PT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liteknik Non-Bina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liteknik Bina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# PTM (induk FT) di Forum Dekan saat in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Kluster (?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0"/>
            <a:ext cx="891540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LOKASI DANA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ESENTRALISASI PENELITI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Proporsional ≈ Kluster kinerja  penelitian 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spcAft>
                <a:spcPts val="2401"/>
              </a:spcAft>
              <a:buClr>
                <a:srgbClr val="0066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Wajib u/ pengembangan Pusat Ke-unggulan &amp; peningkatan angka par-tisipasi dosen dalam penelitian     (Secara betahap, sesuai IKU &amp; IKK Penelitian DP2M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5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KNIK</dc:creator>
  <dc:description/>
  <dc:language>en-US</dc:language>
  <cp:lastModifiedBy>TEKNIK</cp:lastModifiedBy>
  <dcterms:modified xsi:type="dcterms:W3CDTF">2012-12-18T00:31:39Z</dcterms:modified>
  <cp:revision>730</cp:revision>
  <dc:subject/>
  <dc:title>PowerPoint Presentation</dc:title>
</cp:coreProperties>
</file>